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0AAF-92BB-44A4-B934-1324A124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56F-0ADB-4A39-9CBD-5C38F0EB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25F39-A823-4A39-8E69-60153746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A6268-5CDC-4AB6-8084-C21DF020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97273-BCB9-4A2C-A237-8DB2DB95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36AD9-588C-4198-91C1-5FF88EB6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53DE5-2469-425F-A4BA-A981E84C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DFBDD-E46A-44D3-9DC2-167733A6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D7A1D-3217-4FD3-8162-7DEA4204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8F8BD-16B8-423F-8A29-AD43266B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20362-8C0B-41AE-9A14-F0A5D518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0FB50-D1B6-4963-A78E-DA325583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84F-8F03-48A4-BEA9-B88A13AF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C1AF7-A12E-41EF-AB66-D015946E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CEE76-928E-4F95-824E-36002A8A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3D838-C39F-4EC2-A89F-79F20889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EEF3D-C16C-42F6-AF2B-801670A1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36C53-122B-428C-A6B9-673C72F1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5F64C-D275-41A6-BB7B-EF14EC6C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7BDB7-45FC-46A5-A4C1-9B3F115F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8E4EC-E9B3-404B-8CBD-B9CA464E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F113A-815E-4E9A-BF45-5F962E22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AA8BA-6F74-442E-A7AC-3F0C8737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D8A1-736D-45B8-84A6-B77E005F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E28E0-DBE4-42B4-997D-54862AB2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7C910-8B97-47D6-B2E9-399EC0E4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570B8-344C-4CB2-BBB4-44D5E804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FB3C3-532B-4466-9A40-6CE8C3C3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B9B3B-EB69-41DD-BE4D-AA72AB16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6F0B3-56A0-4679-BB4D-A7CA9AA8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D075B-E915-4422-AB1C-9D647913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D2133-960E-4303-AEF2-2124D8CF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7FD75-824A-42D9-867E-334F807E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0E9B3-D373-4498-94DA-C1BC0D6B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E1DB-40F0-470E-96A9-FDBE7D45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4DB16-8ED2-43D4-BDD7-741B304F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4A4D9-7F20-41F2-B3E5-240B6315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AF2D0-3076-4C9A-9743-2FE8BCB6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5EB73-91F8-40B6-A2D0-968662C9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3C5E4-F938-4C37-BE89-DC2E434E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77B66-2167-4D5F-BE02-16C5DED1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D8FB9-1AB9-475E-BDD9-FAD3DBB8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23F7B-F4B0-48F4-8A3A-C9CF6DE3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9931C-015B-4A37-9BF9-3616E5E1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D1014-2051-46CB-A21B-B860525A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C574-1DA3-44BD-87D9-E55EAF06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582A1-CA53-48C3-BFF6-AD594261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F5E09-087E-4589-B2A7-32C133B6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13474-2BFE-4737-BE2E-12C30A5E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B1E42-9C38-4F66-A8A2-288E6151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57664-0904-43FD-88DD-CFF7E980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6E1E6E-B59E-4C14-93AE-E7CB8AED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2BA8C-22E0-4749-A623-56C29A0B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3B1870-E9BD-40D0-AB40-FA812BE4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7D0E9-505C-4675-84AD-38CCCE05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431EB5-9497-40B3-9378-94DDA630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4634-4478-4D64-84C0-0CF496C3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A8852-F6FF-4B2A-98EC-6331A13E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755899-6A48-42EF-A1C5-36835AF1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5A55D8-4696-4CB8-937A-0A6D5516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797050-483B-4835-9DE2-866D5A21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C62BAF-61B6-426B-8BEA-42B4022D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9451C-4B9F-4E81-B414-9ADBCD33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8A7842-EF48-463B-88DC-C087ADF7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789C88-15FE-4306-A2EF-8D9ED7FA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BCB91B-48E9-4DD1-8958-F9129CBE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68B97-E2EB-4F3D-9E67-7AC6E9DC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135D-6D06-4935-8B8E-21F72F4D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45B299-17BB-4C7E-9A1D-60D62197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68879-C0AB-41B5-9C1D-6ED2E563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AE736C-ED90-47AA-8940-46167E53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A25F7B-6E06-4A71-A742-68C99F1C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4BB2B4-8C8E-4E4A-928B-992A084E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E921C9-A425-4D13-A00F-F780B079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1D779-492A-4191-9BFE-E8F05DB6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D8DE3D-DC77-4F63-9073-D802358C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21FC2E-EAF0-449C-80F9-5A885585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251330-2139-4EB1-8B85-563E712E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400D-B259-4CF6-A57B-4086374A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FD97E3-3381-45E0-B232-A17479EA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4AB0A3-67D5-48E6-B835-44EB404D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FB2882-5C0A-43F3-9C9D-824310A3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0409DB-D7FA-45AC-9EB0-196B1617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DA84BA-8F0F-46AA-839A-FDF9EAD6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56C199-4A60-4B70-89AC-46AAB9E9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4F240C-30CE-4CA2-959A-D648D0F0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536813-D80C-485E-A6B1-FAE3B660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69D15A-6AF3-44DC-9189-B01C901D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E4CBB0-3C07-48A7-9B0A-CCEF2C74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193C-1AF4-4033-BE4A-75FC18FE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E8B523-358B-49D7-9A89-BC84CD64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4902-7E04-47D0-8E6F-CB8C3CB3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619-A904-4F6E-9108-C77B2666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17F4-3A8C-48D4-8FE9-8B0A5D0C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3892-AE58-4118-B76F-A00D650C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9EC5-D5A6-4433-BC26-B2AA379D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2B23-BA58-4141-AE13-56F44B74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F253-70F8-4D72-B37B-3BAC7614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75DFB-4B8D-4A2F-9585-CEA83603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92EA0-E780-4132-BE46-0A6C5F37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89DCC-A953-41BE-A323-AFE3C649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9DF1B-B3E9-4A24-A603-2C241538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CF5AD-A015-4FDF-9C5C-5FB50DE5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AAB1-C7FB-459B-94D9-E79FFE1A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2E8E3-396F-426B-A2E4-7C0FDD6B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71678-6780-4A90-8B66-9805A933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2AC68-1853-462E-99C4-684F1A5A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3D506-AF93-498A-B22D-7ED46AB8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14209-C89D-45CC-94D4-0359EFAB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111D1-C8E1-42CF-9419-CF819656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7D01B-FA9B-458E-95E4-59E75348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AD225-8EEF-4D70-9E5B-4E20C652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695A3-7F49-437B-87A9-99CF15FC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FE5E7-B0ED-4299-B382-A7A609F4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158-8D4B-4D22-916E-F1BA0933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57704-0F51-416E-A155-0E2EEBC6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63BB3-0C80-4CB8-9A2A-B7DE00AB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E7C16-EE33-4C06-895F-E04F02C1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DDC07-E1B0-43E8-8E88-CAE0F5B8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E4C95-A397-4344-86E8-2C8C569B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0B82E-5CE6-40A5-8B84-2561EBCA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38C26-64F7-4AF8-B2D2-04F33790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8D2EC-5EC1-4883-A3B7-39E1E294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60FD7-4F0D-4B7E-A009-74B268F6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6E9CB-733A-40DA-9020-1EF7CC11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9B6-98E6-4BBC-B5FB-8DA2E3DF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83D0F-4FB3-4D58-86B7-AD3A962A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43A14-E8E9-4A45-8161-AA4FC84E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C7FF3-3EE1-44FE-AE3E-1EE08617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CB423-71C3-4549-82BD-CFDD3D54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F377F-81C8-412E-9F6F-64CCF83B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C6399-D114-4A75-A3BC-0FA4B803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B4BA6-DE78-42B9-96BF-94573A68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5877B-F8A1-45D2-94AF-249F1F5B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B3D75-F6BA-42C2-BBC0-5C2F3644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C7E56-3191-4174-BA2F-16E6A45A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237-86EE-43FC-94EB-FEB9B606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C7A9D-CDE1-49DE-A326-E49E0269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9F432-E1EE-4D82-9491-933E9EC6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5A95A-B5AC-4070-9821-6B0D255A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488C6-9A8B-4E78-A203-74175DED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1F186-B2F2-4937-B2BB-056D24F0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C9AEE-3EAA-4A1C-90C0-D51280A2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6B620-8B55-42F2-A106-562D46D4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9F587-4010-4C56-84EC-19D829C1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9BB6A-0746-4EA6-A19F-AAF7CF0F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931E2-4830-49C3-8270-4A8A9958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549-1606-4F89-A58B-E067E365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F2602-046F-4773-9B3B-FA2CCCF7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C0B01-5343-46B3-9B34-13B0FBA4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EE798-7266-4F12-A8EB-214DFCAD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157ED-5570-47D8-8677-84E5C01F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3DF41-03D4-4DF0-A722-EA29E5CA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92A6D-4221-41D6-96BD-703851DF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1EF07-0BBE-4291-A00A-714F98F1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85C3E-91FF-4E74-96D4-F5E5CAAA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99E18-CB93-4B1C-804A-6B9A3503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A6AB6-B684-4A63-90E1-01DB4D9C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38F-01E1-417E-965E-53CA402C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1C437-9C22-4789-B03E-D31D957D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CCC1B-5D65-413E-B3AC-E05C1B37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0B347-F9D3-4FFD-BA6C-0D1EF0C5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5F393-5718-424B-88ED-2E1B0E3E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462D2-31F9-4947-A442-250A0A02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DC656-3A38-426F-AFAD-7944293B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D4171-9927-486F-A391-0DF48F0A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515FE-CFB7-44B9-8DD8-B29073B6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C24F1-FFC4-4EB2-BFFD-B0E5DC03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8E54C-1538-43B7-8F58-50E8D722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638-58DD-4FDE-AA0E-BCDEC120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27D0A-5819-4FEF-B7CE-08CFE4EC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690D5-AF4B-48D2-A3A7-F4A5DF0F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1E74F-7803-48EC-B725-7332ED33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51C34-3423-4BDA-B769-D73BA11D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22A42-AAF7-42D3-A975-6D94D3A7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6ECB0-20D6-4047-9A9D-F82F9BAA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FF24E-2E09-4BAE-9A55-EFC9A8E3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14580-07D4-4BF6-84F4-7C4E52AB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A49D1-6B09-4BA3-9AAB-87E4163E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34AC4-411F-4774-B523-758E81BB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386C3-522D-424D-8672-7D67D03E2D2F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A7EA3-FB43-4CE8-A867-C55A79FD3B5F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shortRule.png"/>
          <p:cNvPicPr/>
          <p:nvPr/>
        </p:nvPicPr>
        <p:blipFill>
          <a:blip r:embed="rId4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2BBDF-5814-4AEA-B5B7-64E6E9BABF10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AEEFED-1575-4325-B625-BCC13CA1BCAB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parAvion.png"/>
          <p:cNvPicPr/>
          <p:nvPr/>
        </p:nvPicPr>
        <p:blipFill>
          <a:blip r:embed="rId4"/>
          <a:stretch/>
        </p:blipFill>
        <p:spPr>
          <a:xfrm rot="307800">
            <a:off x="6835680" y="279000"/>
            <a:ext cx="1695600" cy="4842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shortRule.png"/>
          <p:cNvPicPr/>
          <p:nvPr/>
        </p:nvPicPr>
        <p:blipFill>
          <a:blip r:embed="rId5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436" name="Picture 10" descr="parAvion.png"/>
          <p:cNvPicPr/>
          <p:nvPr/>
        </p:nvPicPr>
        <p:blipFill>
          <a:blip r:embed="rId6"/>
          <a:stretch/>
        </p:blipFill>
        <p:spPr>
          <a:xfrm rot="20785200">
            <a:off x="2865600" y="3182400"/>
            <a:ext cx="1697040" cy="48420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6B8D5-05B6-4531-AB4F-0BDB1F768D08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576F2-A373-491A-B6FB-A824295A370C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6F251-BE33-4CA9-9868-745C93571067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09899-EA69-4D96-81DB-A2FE8A7B9510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8" descr="parAvion.png"/>
          <p:cNvPicPr/>
          <p:nvPr/>
        </p:nvPicPr>
        <p:blipFill>
          <a:blip r:embed="rId4"/>
          <a:stretch/>
        </p:blipFill>
        <p:spPr>
          <a:xfrm rot="307800">
            <a:off x="7427880" y="2619000"/>
            <a:ext cx="1581120" cy="4507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9" descr="pictureStamp-Frame.png"/>
          <p:cNvPicPr/>
          <p:nvPr/>
        </p:nvPicPr>
        <p:blipFill>
          <a:blip r:embed="rId5"/>
          <a:stretch/>
        </p:blipFill>
        <p:spPr>
          <a:xfrm rot="322200">
            <a:off x="6338880" y="604800"/>
            <a:ext cx="1611360" cy="2024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0" descr="pictureStamp-Frame.png"/>
          <p:cNvPicPr/>
          <p:nvPr/>
        </p:nvPicPr>
        <p:blipFill>
          <a:blip r:embed="rId6"/>
          <a:stretch/>
        </p:blipFill>
        <p:spPr>
          <a:xfrm rot="322200">
            <a:off x="4890960" y="985680"/>
            <a:ext cx="1611360" cy="20242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85A40-376A-4016-9526-1CCADD195F14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311FB-E89B-4B63-A185-EA8618E594DD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F48194-A35A-4E44-8ED1-34C0A222A4E6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60626-9D03-45CD-916D-B80458D9C4A2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verticalRule.png"/>
          <p:cNvPicPr/>
          <p:nvPr/>
        </p:nvPicPr>
        <p:blipFill>
          <a:blip r:embed="rId4"/>
          <a:stretch/>
        </p:blipFill>
        <p:spPr>
          <a:xfrm>
            <a:off x="6513480" y="1562040"/>
            <a:ext cx="152280" cy="3733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E1482-108F-4215-B257-3955DF6EC67A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37A74-1AB9-43C5-8656-1AFB39F62958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19112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105D8-2664-4794-9321-5E8331F525E7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C472B-FD31-4FD3-8C49-67F2708BBD75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C757B-CEBB-4C04-9E25-94F12B62E58E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E33FC-0588-40C5-89AD-2B62DD50FDC2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57200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30" name="Picture 9" descr="pictureStamp-Frame.png"/>
          <p:cNvPicPr/>
          <p:nvPr/>
        </p:nvPicPr>
        <p:blipFill>
          <a:blip r:embed="rId5"/>
          <a:stretch/>
        </p:blipFill>
        <p:spPr>
          <a:xfrm rot="21366600">
            <a:off x="5138280" y="59976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pictureStamp-Frame.png"/>
          <p:cNvPicPr/>
          <p:nvPr/>
        </p:nvPicPr>
        <p:blipFill>
          <a:blip r:embed="rId6"/>
          <a:stretch/>
        </p:blipFill>
        <p:spPr>
          <a:xfrm rot="21329400">
            <a:off x="2073240" y="55548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pictureStamp-Frame.png"/>
          <p:cNvPicPr/>
          <p:nvPr/>
        </p:nvPicPr>
        <p:blipFill>
          <a:blip r:embed="rId7"/>
          <a:stretch/>
        </p:blipFill>
        <p:spPr>
          <a:xfrm rot="151200">
            <a:off x="3592440" y="936360"/>
            <a:ext cx="1609920" cy="2023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357A1-7F4C-4F84-A8BA-4E3931697BCE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0B55E-BBB2-46AB-9F06-4C8C4EE92F04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33526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A6F23-C9B6-4314-9FAE-73D72A7AE42A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4854BF-4590-4A28-85C2-7B61F55AD5E0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BA312-B58C-4999-80D4-45EC4EB5D98D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730B9-A8E6-4486-9E96-B475C42EC145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8ADEA6-72B7-432A-B689-3EC71EB85EE8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49353-C4D5-4224-BE9C-43700CCFE3D8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67BB6-812C-4AEB-9CD6-AE133A992789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52138-F186-49BB-A10E-8721768B4488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348" name="Picture 8" descr="parAvion.png"/>
          <p:cNvPicPr/>
          <p:nvPr/>
        </p:nvPicPr>
        <p:blipFill>
          <a:blip r:embed="rId5"/>
          <a:stretch/>
        </p:blipFill>
        <p:spPr>
          <a:xfrm rot="307800">
            <a:off x="6797160" y="537840"/>
            <a:ext cx="1808280" cy="5173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CC5F8-7816-4F4D-AC3E-7C4D9A4F30DC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8E8E2-355B-4A4F-BA85-D7A0029659BC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hemistryonthebrain.wikispaces.com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hemistryonthebrain.ning.com" TargetMode="External"/><Relationship Id="rId3" Type="http://schemas.openxmlformats.org/officeDocument/2006/relationships/hyperlink" Target="http://chemistryteacher08.blogspot.com" TargetMode="External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71320" y="1676160"/>
            <a:ext cx="8001000" cy="24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My Plans for usage of information and skills learned in IT-7240</a:t>
            </a:r>
            <a:endParaRPr b="0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571320" y="4419720"/>
            <a:ext cx="8001000" cy="16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haron Holloway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53" name="Picture 3" descr="sharon.jpg"/>
          <p:cNvPicPr/>
          <p:nvPr/>
        </p:nvPicPr>
        <p:blipFill>
          <a:blip r:embed="rId2"/>
          <a:stretch/>
        </p:blipFill>
        <p:spPr>
          <a:xfrm>
            <a:off x="3809880" y="4925880"/>
            <a:ext cx="154944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Wikispaces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I created a wikipage for my students 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50b"/>
                </a:solidFill>
                <a:uFillTx/>
                <a:latin typeface="Calisto MT"/>
                <a:hlinkClick r:id="rId2"/>
              </a:rPr>
              <a:t>Http://chemistryonthebrain.wikispaces.com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Uses for Wikipages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o post announcement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o post assignment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o post power point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o list cool educational website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o compile and showcase student projects (power points, podcasts, videos etc…)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Blogs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I created a blog spot that is linked from my wikipag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o access it directly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50b"/>
                </a:solidFill>
                <a:uFillTx/>
                <a:latin typeface="Calisto MT"/>
                <a:hlinkClick r:id="rId2"/>
              </a:rPr>
              <a:t>http://chemistryonthebrain.ning.com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50b"/>
                </a:solidFill>
                <a:uFillTx/>
                <a:latin typeface="Calisto MT"/>
                <a:hlinkClick r:id="rId3"/>
              </a:rPr>
              <a:t>http://chemistryteacher08.blogspot.com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On  the Blog sites I chose my students are able to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o personalize their pag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dd photo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dd video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34:05Z</dcterms:created>
  <dc:creator>College of Education</dc:creator>
  <dc:description/>
  <dc:language>en-US</dc:language>
  <cp:lastModifiedBy>College of Education</cp:lastModifiedBy>
  <dcterms:modified xsi:type="dcterms:W3CDTF">2009-08-08T17:00:31Z</dcterms:modified>
  <cp:revision>5</cp:revision>
  <dc:subject/>
  <dc:title>My Plans for usage of information and skills learned in IT-7240</dc:title>
</cp:coreProperties>
</file>